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E04-A90B-4D55-AF62-83DEAC3A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E60-DE96-4E10-B253-99CC8B57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103-2601-4EEE-BAD4-B4743F1B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799-9555-40E4-90B3-5E8615DA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7011-A111-44C8-9886-BFBDC722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778D-9845-4893-B795-219CA68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9B01-4439-400F-82B7-58BDA068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41EB-593D-4A05-B1A6-E478F2C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3B56-9192-44B2-8B88-70B33F24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900A-3EA1-4E61-A7B2-E5D11164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A9BD-A40E-4E21-88F0-CDA4234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47C-B49A-4123-879F-B1FB1C41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D99E-3224-4A49-887D-27D7CBCB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A415-A05F-4353-AD24-FB93A09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4B00-1CE6-4497-86F7-3A76B2D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6A7C-AEAD-4FE8-9F0F-13FC16B9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0AAA-BEBC-4457-803E-728EB117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7A58-482F-4FF9-B93B-B494DA72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059A-9F16-4AF5-9880-F1BD1BC1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BA7E-D03F-4C92-B357-8624397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A770-DF78-49EF-83F9-D3617C9C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186F-6444-4136-A0DB-1868FF1F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B20-D5F4-471F-BC7B-00503364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3327-B9C3-4363-9B25-7152D452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D308-049E-4104-AF8E-E8F5367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3816-EB9A-449C-BC8F-2F7808D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1F94-610E-440B-9438-DC8CB9FA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EB0E-3539-4DFD-B0B0-1A929B1C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B8A1-2C55-42A0-87AF-4024D301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AD44-B450-4DC2-A7BB-187029E7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AB0C-4F41-4149-84BE-16F172BF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BE07-960E-425F-B123-D73EAEA5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4125-319B-4654-BA8D-51212C8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FFF-8727-483D-B994-18005AB3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80AD-1C78-48A0-8EED-B8238486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9D36-4DF2-4505-97EB-7BC40986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DC96-9A65-47BA-93CD-80E74BF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DD7F-D11E-4262-A62B-9EB94BC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7810-7CE4-4517-9539-7295B49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CF2F-3DA1-4F23-A3A9-87ECBA5C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0FFB9-C0CB-4BAC-855C-2C757DEC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0CA4-2CE9-4E03-B7F3-A927C1D4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52FC-0E82-4FCD-A320-A56E5BA7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08B76-2C78-4FE5-9A3E-FACD6C7B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CA7-85B7-474F-AABA-8CC989E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688A-B2DA-49BE-836E-B745D44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BB0DA-CC6D-47BB-9CA1-FCF32F95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01A31-7BB3-4294-A4B4-CA836EC3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8AA81-28A7-450B-A424-15845390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0C94-0942-467E-B956-806C2445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30EFE-5E1A-4D34-84E7-7323AE2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48D60-ED1F-42A5-AA3F-9F7C3020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BBEF-716F-43E6-A226-1CD20146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4B40-0924-4D72-B293-83BE30B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C03F3-499E-4F2A-8141-E38D610A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11A-CDDB-4D11-89F1-FEC7EA9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A27F0-9964-4DF7-AE09-3934B87C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A0C-F4B0-4875-81E1-04032F8E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B0B-7C1E-487B-BA2B-479EB795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AA0-CB32-45F1-B381-32B57EDF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0E5D7-C188-46D7-82DB-B7B4EC0825A8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9DD32-9745-4F1A-B7C3-8726AFBC3CD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0CDA6-054E-4579-B029-C19E663B299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C32B8-BA37-4031-A12C-98E023ABDCD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0E03F-599B-44FA-AED4-99F48DD160F5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2904E-881E-434A-AF40-F5EB8EAC54C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2E035-AFFF-439C-B25F-93E2032097EA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6787E-91E2-4654-AEFF-E9E9DEDC4905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5F35B-69CB-4DA3-8D28-AB724A165981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A93E4-D5AA-4D2A-B1A6-083C55E9258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1861-1865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hn Laid and Sons- two Confederate warships were being constructe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would have destroyed the Union blockade.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London government bought the ships for the Royal Navy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Dominion of Canada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ed by British, 186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designed to strengthen the Canadians against the possible vengeance of the United States.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eror Napoleon III of France dispatched a French army to occupy Mexico City in 1863.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installed Maximilian as emperor of Mexico City.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direct violation of the Monroe Doctrine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Civil War ended in 1865</a:t>
            </a:r>
            <a:r>
              <a:rPr b="0" lang="en-US" sz="2100" spc="-1" strike="noStrike">
                <a:solidFill>
                  <a:srgbClr val="6c6c6c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 Napoleon forced to abandon Maximilian &amp; Mexico City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AP PARTS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uthor 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 Who created the source? What is their point of view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lace and Tim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Where and when was the source produce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ior Knowledg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at do you already know that would further your understanding of this sourc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udienc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For whom was the source created? Does this affect the reliability of the source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Reason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y was this source produced at the time is was produced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The Main Idea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at is the source trying to conve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* 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ignificanc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 - Why is this source important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lso include a summary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President Davis vs. President Lincoln 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9200"/>
            <a:ext cx="35434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Davi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Defect: his own states could secede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States’ rights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No personal popularity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Often faced impeachment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Lincol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Long-established government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Financial stability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Recognized government- at home &amp; abroad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Honest Abe”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27000" y="4178160"/>
            <a:ext cx="2462400" cy="2462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746600" y="4595760"/>
            <a:ext cx="20750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Limitations on Wartime Liberties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gress not in session when war broke ou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ncoln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claimed a blocka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creased the size of the federal arm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uspended habeas corpu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upervised voting” in border stat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vis less able to use arbitrary pow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uth more willing to lose the war than to surrender states’ righ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Volunteers &amp; Draftees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863- congress passes a nationwide federal conscription law for the first time in histo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uld pay $300 to buy a replacem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et w/ resentm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ob broke out in north protesting the draf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also forced to draf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uld also buy replacem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laveowners w/ more than 20 slaves exemp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ich man’s war but a poor man’s fight”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492960" y="5060880"/>
            <a:ext cx="26510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Economic Stresses of War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come tax levied for first ti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riffs increas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signed to raise revenue for war and protect manufactur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otective tariff=Republican party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Greenback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paper money issued by Cong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acked by nation’s fluctuating gold suppl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alue constantly changin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660760" y="5572080"/>
            <a:ext cx="2923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National Banking System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ational Banking Ac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ancial landmark of the w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imulant to the sale of government bond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ablished a standard bank-note curren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rst step towards a unified banking system since 183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forced to print “blue backed” mone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evere inflation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North’s Economic Boom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llionaire cla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borsaving machine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echanical reaper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llowed men to leave farms for war while providing grain for northern profi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troleum Boom- Pennsylvania, 1859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“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ifty-Niners”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ned up jobs for wom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" descr="Sarah Edmonds"/>
          <p:cNvPicPr/>
          <p:nvPr/>
        </p:nvPicPr>
        <p:blipFill>
          <a:blip r:embed="rId1"/>
          <a:stretch/>
        </p:blipFill>
        <p:spPr>
          <a:xfrm>
            <a:off x="2025720" y="5089680"/>
            <a:ext cx="33336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rushed Cotton Kingdom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rth’s blockade hampered southern econom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ern transportation collaps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tton capitalism lost out to industrial capitalis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695680" y="3471840"/>
            <a:ext cx="4295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ivil War TimeLin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group will be assigned a different battle or event during the Civil W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will create a poster including the following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ate of the ev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escription (be thorough!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f you have a battle-include WHERE it was fought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ignificance of the ev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teresting Fact about your eve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picture representing the ev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You will be presenting to the class on Monday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ncoln inaugurated March 4, 186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hysically speaking we cannot separate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National deb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ederal territor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p goal: restoration of the uni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3002040" y="3862440"/>
            <a:ext cx="2423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t still loyal to the unio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lies running low, Lincoln chooses to send suppl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tes that he is sending provision for the fort, not reinforcemen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pril 12, 186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uth Carolinians opened fire on the for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34 hour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No lives los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ort surrend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ncoln mobilizes troop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ssouri, Kentucky, West Virginia, Maryland, Delawar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ly slave states that hadn’t seceded from the un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ain Ohio River- necessary for north &amp; sou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ncoln releases official stat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NOT fighting to free the slav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rimary purpose was to save the union at all cos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214200" y="1596960"/>
            <a:ext cx="7917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outh had advantage of fighting defensively on its own l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d not have to win in order to preserve Confederacy-just had to fight to a draw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bert E. Lee- offered command of northern armies, chose to fight for Virgini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tonewall Jackson: Lee’s chief lieutenant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Nor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¾ of the nation's wealth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¾ of nation's railroad system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wice as large of a population as the South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457200" y="998640"/>
            <a:ext cx="3170160" cy="4690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4572000" y="998640"/>
            <a:ext cx="347508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uth counted on foreign intervention to win the wa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ritish textile mills depended on south for cott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rplus of cotton in Britain allowed it to function w/o cotton from the sou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at &amp; corn (NORTH) proved to be more powerful than cott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ritain did not help south to gain cotton b/c it would have lost grains from the north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The Trent affair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ccurred in late 186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Union warship stopped a British mail steamer, (the Trent), &amp; removed 2 Confederate diplomats who were heading to Europe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ngered Britain, but the situation was ended when Lincoln freed prisoners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itain: chief naval base of the Confederac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ritish ships left their ports unarmed, picked up arms elsewhere, and captured Union ships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6c6c6c"/>
                </a:solidFill>
                <a:latin typeface="Trebuchet MS"/>
              </a:rPr>
              <a:t>The Alabam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0:02:18Z</dcterms:created>
  <dc:creator>Emily Johnson</dc:creator>
  <dc:description/>
  <dc:language>en-US</dc:language>
  <cp:lastModifiedBy>emily.johnson</cp:lastModifiedBy>
  <dcterms:modified xsi:type="dcterms:W3CDTF">2012-12-07T15:13:14Z</dcterms:modified>
  <cp:revision>8</cp:revision>
  <dc:subject/>
  <dc:title>Chapter 20 Girding for War: The North and the South </dc:title>
</cp:coreProperties>
</file>